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D109-5804-4C77-A840-F115282A9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5E199-FA9A-4D23-8B23-99EE16C88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0160B-4D3C-4EFC-949B-90EE60DC8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FC308-1D61-4729-9851-C0D4810B0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2A29D-1CBF-48D7-9FCA-5B6A97FA4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F2563-E012-42C7-B1B6-F9622B159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62282-0024-46AA-A8B2-DB0340216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C7F9E-837E-4D24-BEC1-CDDD2C58C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8282A-C554-403F-85EE-2887D5F28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DAAA0-A612-405C-AC15-283867E37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6FFDD-B6A2-4AB4-AB38-B496EABA8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1CF3F-FAAC-4AEF-9D0D-D25D4A974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C5D5B-4900-4965-B5D4-9C8C29464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19957-B19B-470A-8262-FF60D4F37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9EBC8-57ED-46FD-BB79-DEDA7BD28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DA86B-3CDC-4847-B73B-0358B07DB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C2841-FEAB-4C68-B228-3FA0AD499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B0ADD-45AB-4FD2-83C9-345579DA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7EA8-2C00-485B-81D9-41479E6F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DBA3-B33E-45E4-B67B-01590CC5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89FF6-BAE9-43AC-90F9-288671396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63B9-C41E-4925-AB68-6C01E2FD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9462-7500-4D3A-AE0B-19BF6856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5C11-F32F-4A57-91BB-0A8A4333C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8CE4-8E56-4932-A174-4A6CB578F2C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DF82-4AEC-4038-AB64-252C7CE8DB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f0q6qtThF4" TargetMode="External"/><Relationship Id="rId2" Type="http://schemas.openxmlformats.org/officeDocument/2006/relationships/hyperlink" Target="http://www.youtube.com/watch?v=Vf0q6qtThF4" TargetMode="External"/><Relationship Id="rId3" Type="http://schemas.openxmlformats.org/officeDocument/2006/relationships/hyperlink" Target="http://www.youtube.com/watch?v=Vf0q6qtThF4"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880"/>
            <a:ext cx="7772400" cy="1168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alsa</a:t>
            </a:r>
            <a:endParaRPr b="0" lang="en-US" sz="5400" spc="-1" strike="noStrike">
              <a:solidFill>
                <a:srgbClr val="ffffcc"/>
              </a:solidFill>
              <a:latin typeface="Tahoma"/>
            </a:endParaRPr>
          </a:p>
        </p:txBody>
      </p:sp>
      <p:sp>
        <p:nvSpPr>
          <p:cNvPr id="89" name="PlaceHolder 2"/>
          <p:cNvSpPr>
            <a:spLocks noGrp="1"/>
          </p:cNvSpPr>
          <p:nvPr>
            <p:ph type="subTitle"/>
          </p:nvPr>
        </p:nvSpPr>
        <p:spPr>
          <a:xfrm>
            <a:off x="1523880" y="5562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Sra. Barham</a:t>
            </a:r>
            <a:endParaRPr b="0" lang="en-US" sz="3200" spc="-1" strike="noStrike">
              <a:solidFill>
                <a:srgbClr val="ffffff"/>
              </a:solidFill>
              <a:latin typeface="Tahoma"/>
            </a:endParaRPr>
          </a:p>
        </p:txBody>
      </p:sp>
      <p:pic>
        <p:nvPicPr>
          <p:cNvPr id="90" name="" descr=""/>
          <p:cNvPicPr/>
          <p:nvPr/>
        </p:nvPicPr>
        <p:blipFill>
          <a:blip r:embed="rId1"/>
          <a:stretch/>
        </p:blipFill>
        <p:spPr>
          <a:xfrm>
            <a:off x="3276720" y="1676520"/>
            <a:ext cx="2668320" cy="35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s Cited</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http://</a:t>
            </a:r>
            <a:r>
              <a:rPr b="0" lang="en-US" sz="2800" spc="-1" strike="noStrike" u="sng">
                <a:solidFill>
                  <a:srgbClr val="ffcc66"/>
                </a:solidFill>
                <a:uFillTx/>
                <a:latin typeface="Tahoma"/>
                <a:hlinkClick r:id="rId2"/>
              </a:rPr>
              <a:t>www.youtube.com/watch?v</a:t>
            </a:r>
            <a:r>
              <a:rPr b="0" lang="en-US" sz="2800" spc="-1" strike="noStrike" u="sng">
                <a:solidFill>
                  <a:srgbClr val="ffcc66"/>
                </a:solidFill>
                <a:uFillTx/>
                <a:latin typeface="Tahoma"/>
                <a:hlinkClick r:id="rId3"/>
              </a:rPr>
              <a:t>=Vf0q6qtThF4</a:t>
            </a:r>
            <a:r>
              <a:rPr b="0" lang="en-US" sz="2800" spc="-1" strike="noStrike">
                <a:solidFill>
                  <a:srgbClr val="ffffff"/>
                </a:solidFill>
                <a:latin typeface="Tahoma"/>
              </a:rPr>
              <a:t>  (zumb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ebGJKyPZ_Ss (casino)</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1HSskHcSGtc (cub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019BOUKtTiE (l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NTJmlKuiWi0 (n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rigi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eople credit Cuba with inventing the “salsa” dance; however, it is a mixture of dances from various countries including England, France, Spain, Africa, Colombia, Dominican Republic and Puerto Rico.</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 “salsa” originated in New York.</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entralhom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mous Salsa Dancers</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die Torres—born in Harlem in 1950 and is one of the world’s most famous salsa instructors.  Torres is often called “The Mambo King.”</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kie Martinez—born in New York and trained by Eddie Torres.  Martinez is the founder of the ABAKUA African-Latin Dance Company.</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hnny Vazquez—born in Mexico he is considered “the greatest LA style dancer today.”</a:t>
            </a:r>
            <a:endParaRPr b="0" lang="en-US" sz="2800" spc="-1" strike="noStrike">
              <a:solidFill>
                <a:srgbClr val="ffffff"/>
              </a:solidFill>
              <a:latin typeface="Tahoma"/>
            </a:endParaRPr>
          </a:p>
          <a:p>
            <a:pPr marL="315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sa-dance-professi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Famous Dancers</a:t>
            </a:r>
            <a:endParaRPr b="0" lang="en-US" sz="4400" spc="-1" strike="noStrike">
              <a:solidFill>
                <a:srgbClr val="ffffcc"/>
              </a:solidFill>
              <a:latin typeface="Tahoma"/>
            </a:endParaRPr>
          </a:p>
        </p:txBody>
      </p:sp>
      <p:sp>
        <p:nvSpPr>
          <p:cNvPr id="96" name="PlaceHolder 2"/>
          <p:cNvSpPr>
            <a:spLocks noGrp="1"/>
          </p:cNvSpPr>
          <p:nvPr>
            <p:ph/>
          </p:nvPr>
        </p:nvSpPr>
        <p:spPr>
          <a:xfrm>
            <a:off x="457200" y="2349000"/>
            <a:ext cx="8229600" cy="374652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aon Bristol—a Los Angeles dancer. Seaon is said to be the best male follower. </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on Rose—born in London and is said to be the best salsa dancer in the United Kingdom.</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sa-dance-professi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r Salsa Sty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York Style—adheres to the “On 2” rhythm.  Dancers occupy little space on the floor and often have solo performanc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9"/>
                    </p:tgtEl>
                  </p:cond>
                </p:stCondLst>
                <p:childTnLst>
                  <p:par>
                    <p:cTn id="3" fill="hold">
                      <p:stCondLst>
                        <p:cond evt="onClick">
                          <p:tgtEl>
                            <p:spTgt spid="9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tyle—follows “On One” rhythm.  This style is more flashy than the New York Style and has been greatly influenced by the swing and mambo danc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2"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2"/>
                    </p:tgtEl>
                  </p:cond>
                </p:stCondLst>
                <p:childTnLst>
                  <p:par>
                    <p:cTn id="9" fill="hold">
                      <p:stCondLst>
                        <p:cond evt="onClick">
                          <p:tgtEl>
                            <p:spTgt spid="102"/>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ban Style—often the follower mirrors the steps of the leader.  Also, the dancers tend to circle around each other.</a:t>
            </a:r>
            <a:endParaRPr b="0" lang="en-US" sz="28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sa-dance-professional)</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05"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5"/>
                    </p:tgtEl>
                  </p:cond>
                </p:stCondLst>
                <p:childTnLst>
                  <p:par>
                    <p:cTn id="15" fill="hold">
                      <p:stCondLst>
                        <p:cond evt="onClick">
                          <p:tgtEl>
                            <p:spTgt spid="105"/>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uda de Casino—similar to square dancing where a leader calls out the dance movements and couples may switch partners.  You must have at least two couples and often couples challenge each other.</a:t>
            </a:r>
            <a:endParaRPr b="0" lang="en-US" sz="2400" spc="-1" strike="noStrike">
              <a:solidFill>
                <a:srgbClr val="ffffff"/>
              </a:solidFill>
              <a:latin typeface="Tahoma"/>
            </a:endParaRPr>
          </a:p>
        </p:txBody>
      </p:sp>
      <p:pic>
        <p:nvPicPr>
          <p:cNvPr id="108"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08"/>
                    </p:tgtEl>
                  </p:cond>
                </p:stCondLst>
                <p:childTnLst>
                  <p:par>
                    <p:cTn id="21" fill="hold">
                      <p:stCondLst>
                        <p:cond evt="onClick">
                          <p:tgtEl>
                            <p:spTgt spid="108"/>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umba—combines latin american dance and aerobic exercise.  Zumba originated in 1999 when aerobic instructor Beto Perez forgot his exercise music and used the salsa music he had in his car instead.  It is quickly becoming an international sensation.</a:t>
            </a:r>
            <a:endParaRPr b="0" lang="en-US" sz="2400" spc="-1" strike="noStrike">
              <a:solidFill>
                <a:srgbClr val="ffffff"/>
              </a:solidFill>
              <a:latin typeface="Tahoma"/>
            </a:endParaRPr>
          </a:p>
          <a:p>
            <a:pPr marL="3326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lsa-dance-professional)</a:t>
            </a:r>
            <a:endParaRPr b="0" lang="en-US" sz="1200" spc="-1" strike="noStrike">
              <a:solidFill>
                <a:srgbClr val="ffffff"/>
              </a:solidFill>
              <a:latin typeface="Tahoma"/>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11"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1"/>
                    </p:tgtEl>
                  </p:cond>
                </p:stCondLst>
                <p:childTnLst>
                  <p:par>
                    <p:cTn id="27" fill="hold">
                      <p:stCondLst>
                        <p:cond evt="onClick">
                          <p:tgtEl>
                            <p:spTgt spid="111"/>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4:16:23Z</dcterms:created>
  <dc:creator>cbarham</dc:creator>
  <dc:description/>
  <dc:language>en-US</dc:language>
  <cp:lastModifiedBy>cbarham</cp:lastModifiedBy>
  <dcterms:modified xsi:type="dcterms:W3CDTF">2010-02-17T12:51:55Z</dcterms:modified>
  <cp:revision>4</cp:revision>
  <dc:subject/>
  <dc:title>Salsa</dc:title>
</cp:coreProperties>
</file>